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119-CB57-4BEC-8045-1C8827F2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A54-D134-4CF3-B5B7-F557A1FC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070-DE2F-4E13-83A4-BD3C5164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9FF-D7BC-4FF1-A03C-772D165B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8182-586B-4F68-AB61-DB5D08B0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FF27-583D-4FF7-9DA4-0114CC79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440E-F8D1-4A91-B6E9-8C80B0CB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31D-244F-4EF2-807E-C7D3C91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FB4-B7CF-4B7E-8EC9-82B29E3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F403-F08F-4510-8AD0-D5A21AC8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5E71-BBE1-431D-A5A0-B4FDE4E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C79-E467-4A79-9706-D9EDDEB0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575B-9850-46E0-AF6E-BDED0BB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18C-04D3-413D-BF7C-E9C15D7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C6E7-18A0-47C5-A641-E56E928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4F93-9094-47F9-9FCC-C8B90DB6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C98-9054-4A05-96E7-73D1BD85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E4F-6C8B-4850-A606-748F8EA8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AE6-D4BA-4A7C-AEED-97D7212D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861-2FBB-40CD-B804-4A3BC551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C5C-BAE6-4E2B-86C4-97314096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601-C3F0-448F-B3A0-072C956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D4E-C14B-443B-BE24-2CB0EFE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810-F032-4727-B87B-BF2B247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01A5-9235-4FC2-8274-5AFF4736F5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8D3D-55D9-49DF-9BFD-F71E52A47A8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6848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20499600">
            <a:off x="833040" y="4083120"/>
            <a:ext cx="456876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ountain Building and Eros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51814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 &amp;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1600200"/>
            <a:ext cx="19810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Two Constant For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ere is always competition between these forces to shape the landscape of the Earth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19520" y="2362320"/>
            <a:ext cx="18288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938240"/>
            <a:ext cx="22860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938240"/>
            <a:ext cx="2286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Ex. The Rocky Mountain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893000">
            <a:off x="1365120" y="2761920"/>
            <a:ext cx="2590920" cy="110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079400">
            <a:off x="690120" y="3088800"/>
            <a:ext cx="28195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OCDSB User</cp:lastModifiedBy>
  <dcterms:modified xsi:type="dcterms:W3CDTF">2013-02-28T17:05:25Z</dcterms:modified>
  <cp:revision>39</cp:revision>
  <dc:subject/>
  <dc:title>Slide 1</dc:title>
</cp:coreProperties>
</file>